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B64-E953-4AAD-A51D-4F291E65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E31-FF4C-4E9C-9B00-23B5376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6A0AF-092F-4EC8-93E2-10519A6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D2BC-00DC-41A6-B908-6A60CB5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3463A-F8E6-4404-AD6A-D81E6F8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31B26-8111-4AC5-9630-E7060B2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67B4-60ED-441C-86F4-0D362E2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41F58-1BC6-4BFE-BBC8-4F32E98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5090-CF2F-4DD6-8A39-EE684B1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B1E6A-59E1-4EBD-9295-6D53CD4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96D8B-B14F-4A98-BD56-DD98DF9F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410F3-27BA-4764-8C71-BB70070C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46E-4827-472F-94A7-1D065C3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4803B-DEAB-42AE-88FE-88B5C29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8062F-E5E3-45A2-89F9-76C3161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3ECE5-7EB7-4F4B-901F-4D4F03B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BAD8-0C17-4BE5-8454-39761A2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917C9-580C-4DB5-B72A-CD313C58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2BB93-B2B1-4527-A23F-D5AD18D7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CA738-11CA-4FC3-BBA9-E98B550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CC1DB-D6D8-422F-99AD-79CED69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68831-645A-488A-B69F-A9A0C214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AFEC9-D089-4CA4-9695-DEB928A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C51-10B0-4CCE-AAA9-77352665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27E7B-94F0-405B-90B2-E03F2890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2838-E52E-407D-95E7-47F9BDC5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6C38-516B-42B7-9C75-1AB67F2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459B-A638-4141-A20C-770AB71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F65E7-76FF-4854-9AEC-56B7555E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2195C-65EB-4D71-B519-078BB782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83093-A32E-4E86-91F0-211AF0E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D16D-5ED6-4D67-BFEB-266D595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73A1-88CB-4E7E-B086-D1CA990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60430-72A6-4990-BFFD-4DA2C59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B6F-83E4-4F6D-B091-15A4850D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F4DB-34B8-4D5A-B49D-47A0E62E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FB1AD-7393-43F6-B864-BE30C198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EF426-206C-47A9-8DA1-790FD5FA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4C551-A11D-44EB-AC70-8CC44E1B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B3681-1831-4376-B861-F746AA6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6CB4C-75FA-46F4-8984-7331A11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0557F-1371-4AF0-AD0A-08113C4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47569-310D-4D90-9C76-ED55A6E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40B9D-1F49-49CB-BD9F-69D18AF4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AE0E5-5F63-41FF-98F4-8883E7B3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E863-DA90-43EF-ABA5-6980CD9A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FEF14-C562-4EC9-A823-5117EDB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7321-6E6E-4DBD-9541-25539947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BF7FB-2189-46BD-9107-7A24E887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D02A4-28E9-44FD-972E-CA566925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47684-AABB-4333-AF32-2602DB59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39501-F676-4334-AFCB-B2609F4C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326C9-D046-413E-B85B-D64793E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01060-A291-4609-AE83-53B9FBC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B4619-632A-436C-97EB-F4524B2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B889E-D9F3-47F4-9928-6A160A27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96C-70A7-4431-A7BC-402FC396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C6D81-A0C4-44A1-A309-411C92AF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6299B-360A-4A67-AACD-F1ACB74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19D46-3C12-4E08-8E8A-7192716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516C2-351C-48C1-A034-46C768C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FFA3D-4D90-48EF-BA98-68643B0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3EC88-7DD0-4989-A58D-ABD95E89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94704-7874-4CA5-A3A8-5A2B524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6701D-C714-4F62-9BF1-CE52EE11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23A73-580C-4064-947F-4F18940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FDEBE-D4BA-46D9-8428-3304E25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7CD-529E-438A-984C-693CC6A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3A142-B33F-46F4-89E2-F8E2B1A0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B9CA0-8565-4BFE-93E0-7F0C5D5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227FE-7210-4A3A-81DD-882E5E7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38239-A808-4BCA-BCEE-9E413AD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5851F-00D1-4562-8E99-18238C8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EC302-A20E-4FF9-9C37-05178E5E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A111D-DD46-435E-B857-4A0854AE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BD8DA-3BDF-4A85-8BC5-741096E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84854-0BAD-44F9-8C5F-D65FA649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FEC9E-A6CB-4E9F-AD4B-BD4AF4B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04ED-10DC-4F1D-801A-F76630E7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DEAD9-741D-4D97-A847-0A16658F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713D9-7F2C-44E5-A82F-A4433982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12E07-F146-4208-9AB0-3829BF97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AD1C0-7593-4045-9679-1234ED8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8CDCD-205F-4F04-93D1-133C2D0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37994-89AC-4A5B-8B6F-400215B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F6B85-B47E-4300-A17B-567BD29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C0F5D-E133-482D-A37A-9F539F5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5A547-14DE-4F18-9A22-C1C3CF0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A7AB4-BAB4-42E1-95D9-C41B9A24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7692-4D3D-4239-B86F-FCD6B032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3B6A5-FED6-42FF-91D3-3ECA2598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A921C-665C-4092-A589-8EC819C1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7B1A2-73C9-491B-86C4-DF5E38C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0272C-405F-47F9-AEDC-AC8B5A9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43890-10FB-4FF3-8183-FF9839B4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879CB-431C-4696-AD49-AD25758E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AD21A-6079-407F-AC09-4E0A9C7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0EA03-FF3A-4552-8F8B-94AE5E5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01A85-F59A-4FFB-8888-D36E8C27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F7C12-F44F-4921-8C18-9F66847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2B2-F1FB-45A3-B6F8-1A5AA95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A20ED-76DE-4243-9D1B-1EA5C33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D70CF-1DAE-4FA4-8ED6-46914461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D180C-D789-4578-96A5-F3C69897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81507-9E9C-40A0-AAED-2DCC3E5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57722-DCF7-4A9E-9FFE-00E544C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9EF99-4243-44C7-99FE-66A8292D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27076-5FED-4FA7-9466-C89BD17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3BF03-1216-41AB-8E1E-E997A443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11304-FF38-446E-90D2-F4FEC5E8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03160-4DF6-4319-A33A-54659F6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81D-885C-48AD-9419-58499B2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1C81-DDAF-4263-99E4-0851D56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6222F-2147-4954-8A8A-7FEADBF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505D5-6EB9-4A14-B11D-7EB6593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CFBA2-8101-4D74-9B89-551436A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CFB34-4DA1-41FF-977A-EA3DD94E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06A68-9FF2-4E03-8134-94B5D8A4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A52DE-A1BD-439C-B2B3-DEEE7726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242F7-BA3C-4917-AA37-1D6FE73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94E8F-2A65-4769-A3AB-2BD8B52C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7B572-1486-4DC6-A390-512B9AF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9D8C3-88C4-4EE9-A37D-ED7EC165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DC4-2E28-4C79-9B60-BF99CAC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46898-6AA5-4F75-BDB8-4BC9CC27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73DA4-3DD8-4A85-A967-01902DD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41FFE-10C9-4116-AD87-609129E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02DE9-CF34-4FD7-A5E3-4107D56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F7F59-8B3B-4734-8864-033D914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6B30A-50D1-477A-8DBB-DC4F36E4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F28D5-CD07-42DD-A0CF-4FAEC1EE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E7FD4-A359-4973-84B0-A708F9AC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309F3-6303-452F-BB65-77A35C3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E7027-2DDB-488B-AD2A-646A787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B759-B7A0-48EA-ACCB-724C63B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A63EB-E7B3-4BB9-902F-20B17BE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9D759-09C8-4321-B132-0762B67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E4D90-9213-41F7-A197-68BD9282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28092-3D4E-476F-8C48-50A4E41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2A707-6B6E-40E4-A9C8-5A4523D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BA4FA-E725-46CB-9D5F-D9F2FAC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37869-6D6C-4758-8064-8A18545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CDE6A-F72D-4CC5-BBEB-6F0D8422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45581-879A-4BCF-8A60-99B7496F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0A922-7D58-46F3-BBC6-ED9F3F55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2B7A-58F5-4A00-9762-6C933CF6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E9B8D-E1BD-4D1E-AB39-C410A58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7211F-2FC4-4C88-BD66-774D8D4E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A365A-CC76-4782-B0BB-7CCB0CA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9684F-04C5-463E-BB40-41A2FC98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B9C9D-5B6C-450D-8180-13A9FD7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F16EF-F674-4191-BCB9-5BC1BE2E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1CF20-AA57-4EF3-AB45-565E71F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CA398-8155-47EC-8F71-9D8DD73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11A36-E4FB-404C-8CBE-BA92D18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F1DC8-28E9-4A85-B385-9DBD75DE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FE47-4801-43FB-A7B1-99BBABBF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55327-6A85-4621-95C2-6AFF6B47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49A88-37F9-40EE-B089-D5EACCD5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28F0A-9780-4B08-A8ED-2BB94CB6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17540-FF1E-4221-9016-040AA8B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73D97-FC10-461E-AA62-3D5BFEF9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9A2D4-531D-4D5D-9EDF-CC4B4F6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1C5C1-8FD2-4A03-B42C-413689F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8D366-C0C0-4F93-B0C9-89726F8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6A0C7-135A-4A94-B5CE-7DFB10C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CA93F-7043-46D0-A566-8A5E31F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3BF9-FFE2-4484-B4C9-921B6D1F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E7414-CE4F-467A-B55C-EAA9E5D8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B0E24-F315-4F59-AA61-DA5BF71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3A30F-4B8A-4D23-B7C8-0A1D58D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0D10-A3C3-4ABD-8AFC-733F167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2681-C222-4723-967C-1CB5BE3E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0825-589E-4A32-A531-A166D13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E98F-77C5-4C69-8C90-7D3D98D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A49-024F-4E20-A8A1-279C1633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D259-C757-4989-A5B6-9020D034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D1A0-55CB-4870-AF97-299F04C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8FF4-33B0-4B05-BE72-A09CC64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5AA2-0710-4BE7-AF56-2084C29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0747-22D3-4BB6-8BFD-41638447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7CE8-5B15-48FF-B85A-3DBD56A1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9AD8-8CF9-40FD-99FC-13AC588F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EF48-BC9D-4DCE-AF2C-C50C3544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F9DB-FF5C-4869-B5D8-B4F408E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E92A-71F7-4862-98B9-67A9CB9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595-A935-4F79-A41A-CFB1A0B5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6212-7A5C-4DFA-A550-F43B31E7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0494-C645-448C-B64C-B2D728E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73E4-618B-46C0-AD79-1370E8C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44B3-5863-4B2B-A8A8-E740A25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9D12-8967-429E-9694-34F54C7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08619-BA9F-4ED4-A78E-D1FD594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7C7D-6BB1-4081-A0D7-32D85A5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2B79-B9DE-4CB2-959A-3C0005D7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C177-5129-4770-A875-4417AA18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004B-8A75-40CC-BBA7-5F390B82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74C-C93B-457D-804E-5A85C999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BBCB-1A94-4DCC-8E7F-46521CF6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FB38-065B-4EA8-A0B7-1AE7230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31085-C9C0-461A-8C6A-6B26C09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AFFA-5EA4-49DB-87B3-E7BF24E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2D70-4CD7-4EB9-B634-970D2EB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8F00-0CA8-491A-B3E3-C4960F6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2437-D6B0-4E63-9C64-E7E4FB3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5302-9B54-4C5F-940B-9B53B05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B172-CD30-48AA-8F94-F22AC75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B969-5FCC-47EF-ACA7-017EC7D8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010-88CB-40E1-9F39-5FD57CD2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7618-31FE-4606-A4D9-46DBE3A9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87AA-9B0E-4B77-9169-13546A56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13036-C5BA-4CA2-BE5E-957F10E3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7B7E-D303-4D3F-8DDC-9B7B356D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C126-764F-4C3D-93C7-4BDABCF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B2AA-22B7-46E6-AE9C-959FE7B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989E-52C8-4AD4-84AD-21EF7E6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96CC-1C3D-4680-903F-643DE57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0450-8E88-4BAC-A668-71E0EE1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BD01-CB2A-4A4E-8D0C-4A47093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DE-4E6E-4741-873E-7BA8A54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69F8-CD96-47D1-850E-729213E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D78D-0D05-4DD4-A403-E45B86B5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54D9-8216-4AAF-AFA2-EB515AEA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CCE7-80F9-4372-B061-F292B3BF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EEB6-FA27-47B2-A410-72D70A82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2D13-3FD0-4742-A20C-5CCCDD58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F3AB-2902-4767-A0E0-3D64005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D872-C081-4D45-9171-1B930EBE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1B6E-A6DB-4B93-A896-BFBB9E82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84F6A-6D51-44D2-B246-40A349B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DE8-765C-47C2-8D98-4520781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D0046-C224-40C8-ABFD-89D2997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4FA6-611B-4D0F-A98A-42531583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92D2-D9AE-4DD7-9BDE-4CE0FEA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8B00-4CA5-4C40-8802-BCF41820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C36B1-48CD-4CAD-B360-CBC9A75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2DD7B-00BC-4E6C-8775-690DCB50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B380-D956-4B1A-B04A-8C34062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8F4E-5956-4C73-A2C2-654243A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71F54-5D34-4C87-857D-979590F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2DC4D-7D4D-4917-A479-B3A34BD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ECD-2952-442F-8C53-6EEB877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1F0BA-68A8-44A3-8E15-F428829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C826F-BC56-48F3-A0AC-6DDDA6C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914E2-C440-449E-A644-2E98B52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8D02C-306A-4347-9E0C-94752D2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DB60-A46C-4492-B469-5CF5029B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6B18F-9D10-45E4-AC17-8F197DCC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AF2B-8A09-4E5B-A407-E5933C45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06F6C-FAD0-40FF-B603-95786AF5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B2827-5D5B-45A9-9BDA-2C4A8D7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28D9D-CD7D-4088-880C-098A4F7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BC4-8090-4726-9902-1C67A678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D89D-2F44-4004-B313-367DC06BA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00D-DEAE-4E4C-9DB9-717FE117C6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E2C-8676-4142-B39F-FD97848480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225B-33C6-40AC-B6C8-9147C186A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877-6931-43F4-81A4-C4F47B2D1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706-EFFC-4923-90B5-9B8F83E45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A75-4C2E-4058-B001-A5ACF1907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F0D-C769-4996-939E-9939A35AF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3F75-96B6-4CEE-A115-8582680A5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595-F444-4255-A4C2-1837BADA3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189-8CEC-4BF1-A02F-AD75DF1AF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4792-6975-4197-90A0-38DEBEC6C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22B-843F-48D0-B233-DC2060FA4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CE16-A1A3-462C-8C8C-CF5BB07E7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1928-35AA-44F4-86CB-1AE768935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01B-85ED-4B6F-B81F-9F2F71416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9F9-A784-46D0-902A-957CAE5AA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F259-92D0-466E-B692-61A549439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E93-8C52-4703-82B9-CA723FD42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68A-4538-4D14-B61E-138947B23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A76-3B90-4E21-A3EC-1A04F157F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115-2448-418A-870D-55D371549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ED5-45DB-4D54-835D-DEA8389DA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B5F9-4566-401F-BB99-929FE87D2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764-1332-468E-9C62-F63D470E9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C146-5D8E-491D-BC66-B86DA3AE2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4739-B658-4356-9B0F-4AFF6E8D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B3A-444D-4570-BA96-B053EE0DB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77E-4817-40DA-BF0C-9C45905CB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F02-7672-4B74-BE32-886EFE7DA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842-7021-4E3C-BE70-F2CFACC2D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BD3F-60BA-46ED-BDD3-0DD2EFCC3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3586-18F8-4F9B-B57A-D44615BBB6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477-4399-480F-AAC3-B30D3F7E0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AA5-C8EB-456F-BE88-5B1F151FE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16F-CE18-41A6-9673-531E2C11E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448-41DE-4065-9BD0-7C5EE8C91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FDDC-EA53-4EC8-B085-DB6AA36E8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13BE-172B-4E87-AADE-7D6D4AB5B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19240" y="3100320"/>
            <a:ext cx="51055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rcRect l="0" t="51095" r="0" b="0"/>
          <a:stretch/>
        </p:blipFill>
        <p:spPr>
          <a:xfrm>
            <a:off x="442800" y="1968480"/>
            <a:ext cx="8258400" cy="1317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8286480" cy="34383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531720" y="763560"/>
            <a:ext cx="4038840" cy="1133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50920" y="5213520"/>
            <a:ext cx="5749920" cy="93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214200" y="5937120"/>
            <a:ext cx="5749920" cy="95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214200" y="6683400"/>
            <a:ext cx="5749920" cy="95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7"/>
          <a:stretch/>
        </p:blipFill>
        <p:spPr>
          <a:xfrm>
            <a:off x="2143080" y="6143760"/>
            <a:ext cx="990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414360" y="714240"/>
            <a:ext cx="8315280" cy="6115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7236000" y="5630760"/>
            <a:ext cx="1512720" cy="435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900000" y="6324480"/>
            <a:ext cx="2664000" cy="435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8096400" y="61128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6" descr=""/>
          <p:cNvPicPr/>
          <p:nvPr/>
        </p:nvPicPr>
        <p:blipFill>
          <a:blip r:embed="rId5"/>
          <a:stretch/>
        </p:blipFill>
        <p:spPr>
          <a:xfrm>
            <a:off x="6154560" y="2011320"/>
            <a:ext cx="1200240" cy="59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6"/>
          <a:stretch/>
        </p:blipFill>
        <p:spPr>
          <a:xfrm>
            <a:off x="250920" y="1069920"/>
            <a:ext cx="8642160" cy="144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7"/>
          <a:stretch/>
        </p:blipFill>
        <p:spPr>
          <a:xfrm>
            <a:off x="250920" y="1806480"/>
            <a:ext cx="864216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452520" y="714240"/>
            <a:ext cx="8238960" cy="6115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100800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433440" y="923760"/>
            <a:ext cx="8277120" cy="5648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50920" y="3000240"/>
            <a:ext cx="8642160" cy="144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250920" y="3713040"/>
            <a:ext cx="864216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438120" y="857160"/>
            <a:ext cx="8267760" cy="4096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442800" y="852480"/>
            <a:ext cx="8258400" cy="59342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2"/>
          <a:stretch/>
        </p:blipFill>
        <p:spPr>
          <a:xfrm>
            <a:off x="4932360" y="2887560"/>
            <a:ext cx="1800360" cy="433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3168720" cy="4334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4"/>
          <a:stretch/>
        </p:blipFill>
        <p:spPr>
          <a:xfrm>
            <a:off x="755640" y="5589720"/>
            <a:ext cx="1871640" cy="4348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5"/>
          <a:stretch/>
        </p:blipFill>
        <p:spPr>
          <a:xfrm>
            <a:off x="6875640" y="5589720"/>
            <a:ext cx="1800000" cy="434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6"/>
          <a:stretch/>
        </p:blipFill>
        <p:spPr>
          <a:xfrm>
            <a:off x="755640" y="6259680"/>
            <a:ext cx="1871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438120" y="1076400"/>
            <a:ext cx="8267760" cy="5210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324000" y="24382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3"/>
          <a:stretch/>
        </p:blipFill>
        <p:spPr>
          <a:xfrm>
            <a:off x="324000" y="310680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4"/>
          <a:stretch/>
        </p:blipFill>
        <p:spPr>
          <a:xfrm>
            <a:off x="324000" y="44434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5"/>
          <a:stretch/>
        </p:blipFill>
        <p:spPr>
          <a:xfrm>
            <a:off x="324000" y="511812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6"/>
          <a:stretch/>
        </p:blipFill>
        <p:spPr>
          <a:xfrm>
            <a:off x="324000" y="5815080"/>
            <a:ext cx="8569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433440" y="1081080"/>
            <a:ext cx="8277120" cy="5419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3995640" y="3963960"/>
            <a:ext cx="1008000" cy="4334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6948360" y="3933720"/>
            <a:ext cx="1800360" cy="4334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1187280" y="4619520"/>
            <a:ext cx="2305080" cy="4334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4140360" y="5300640"/>
            <a:ext cx="1008000" cy="4348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6875640" y="5300640"/>
            <a:ext cx="187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971640" y="5950080"/>
            <a:ext cx="23763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1162080"/>
            <a:ext cx="8286480" cy="52671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029040" y="3284640"/>
            <a:ext cx="568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57200" y="728640"/>
            <a:ext cx="8229600" cy="6058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1163520" y="2143080"/>
            <a:ext cx="2009880" cy="1047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2786040" y="4551480"/>
            <a:ext cx="200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5715000" y="5757840"/>
            <a:ext cx="200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2949480" y="3357720"/>
            <a:ext cx="10573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38120" y="1228680"/>
            <a:ext cx="8267760" cy="4486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68440" cy="457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6875640" y="3933720"/>
            <a:ext cx="56988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47840" y="1147680"/>
            <a:ext cx="8248320" cy="4638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1008000" cy="433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0080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66560" y="714240"/>
            <a:ext cx="8210880" cy="2495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" descr=""/>
          <p:cNvPicPr/>
          <p:nvPr/>
        </p:nvPicPr>
        <p:blipFill>
          <a:blip r:embed="rId2"/>
          <a:srcRect l="0" t="0" r="0" b="29957"/>
          <a:stretch/>
        </p:blipFill>
        <p:spPr>
          <a:xfrm>
            <a:off x="428760" y="3357720"/>
            <a:ext cx="8286480" cy="344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1008000" cy="4334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3973680" y="3363840"/>
            <a:ext cx="10080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438120" y="723960"/>
            <a:ext cx="8267760" cy="6134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324000" y="14572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324000" y="35560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324000" y="426096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324000" y="6372360"/>
            <a:ext cx="8569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38120" y="942840"/>
            <a:ext cx="8267760" cy="562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1800360" cy="434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6516720" y="5373720"/>
            <a:ext cx="2232000" cy="434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4"/>
          <a:stretch/>
        </p:blipFill>
        <p:spPr>
          <a:xfrm>
            <a:off x="755640" y="6062760"/>
            <a:ext cx="5184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52520" y="1185840"/>
            <a:ext cx="8238960" cy="4743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232000" cy="4348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3168720" cy="435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4"/>
          <a:stretch/>
        </p:blipFill>
        <p:spPr>
          <a:xfrm>
            <a:off x="1258920" y="5445000"/>
            <a:ext cx="187308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2:54:0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